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B67-5033-4D58-948A-A59ACC39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5C3-7DA4-4249-84F3-512E973C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8F09C-0EAB-41F9-AC3B-FB395A7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66CAF-E634-4961-9491-89AB79D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6E49-8641-4AD5-8609-AD5C32D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B9D3-50CA-4510-8950-C908B39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FCDE-49E4-4DA1-B95D-B2F3381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9D504-39E8-466A-9F5A-CF0E85B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C957A-42B5-40B9-B401-2780768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406C1-6228-4A0C-B4F4-D25AEE01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095A-4241-41E8-896A-0268671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9BDA7-6DEB-44F4-9258-44A9030E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CEF-5CF7-485E-AD07-B795BCB0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99823-550D-4E9C-BC35-72F7FC6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377AB-A4C5-4DB9-A6C2-8F6AC101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741C1-F99F-4C3E-987D-4556A85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89A67-D529-4D29-8D61-B1AF6A86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0B97A-5511-4883-973E-2ABA276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519B8-B709-44BC-826D-4143F9D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46896-D9EC-49BA-B150-307B111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5FA6-EB77-450B-8555-ECAC897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429DB-4A20-4E4E-8A4B-6AAD13C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61EA5-7C26-48DF-B33A-6B62E816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B77-41F1-4D10-8921-372191ED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93F08-11F4-427D-BBE7-704ADE5E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006EF-7E60-4D2E-AA7E-1B6839D5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D0229-23DD-4409-B732-19AB802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A4B86-8F2D-4E72-ABE6-F44FE4D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E161-7AE9-4ADB-9FAE-22793D7A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88F49-79EB-4F6B-A9C9-EDCA55A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1A4E-4027-45DB-AB5A-5ED41FB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50DDE-17DA-4C07-80DA-C37F325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25AA-A4AF-4156-9156-AF0EB42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A6B0-39E8-4634-A692-F6439D4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3600-1494-47CC-9993-7071096E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74580-44FE-45E3-8E6A-85EB2FDA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BB164-153F-4EAE-A8DA-63DD7877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F57ED-1AF5-4218-9805-FB6A5619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1DEFF-7B13-40F6-9198-019F9DA4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DF414-31E5-4E28-805F-91484082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224FB-9CFA-4778-9EE6-1F64E4A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8D144-C5A5-4BFC-87D1-0C5AB282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A4F5A-C64C-41B1-B75C-A9840D85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C079B-A2E4-4DF0-8981-7CB1414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1E8DA-2E7F-4BF1-83A4-64D8391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34FB-A7B2-417C-942B-27C466C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8DBA8-B6C7-42D2-8E14-7280447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6C01E-D1D5-476C-89E0-36C68B0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A5CC3-3FA4-4454-8746-053F2426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27E96-88A5-41F0-875E-8A0BC20A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F5DE9-4C35-4715-ACEF-9CC7DEBA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0653-2BCC-4EEB-A940-EAB60FD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F04-0646-4FA7-8950-862781D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8E3-16C3-42FF-A732-95FA29F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C29D-2D2E-4E5B-A7FA-BECCC9A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347-DC86-4FFD-8197-C50678D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2E5-487E-40E3-83AE-75786C3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C1D9-CBC4-4F81-A957-C2FFFC5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364-44A7-4EDD-9B30-CC0DA08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DA7E-A8F5-4FB8-A020-752792A3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C3E6-0373-4107-9A38-50E76EEB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7C5-A133-4D79-B026-C1C8C8E9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71C1-C48D-4B2E-AD2A-95349EA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1998-EC9F-44CF-94D1-B821F527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CEBA-8653-4B53-BD97-A4D9C502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9A7E-F3CE-4E0A-8D72-9FF765A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B7D4-F155-4288-A0AE-29C0CF4A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84B-9DC5-4EFD-9783-EFEEE02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B38C-E4C8-41CD-9333-C6FCDF1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F642-B009-44CE-B0A4-26BE5AD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5682-E25C-4912-A943-6699389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FEB0-2D46-41BC-A9D3-28ED01C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B452-4A5A-43E6-B9B9-C3903236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779F-27A7-4F39-A0E7-CD420D90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BA72-7742-4307-9D06-09C6112E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0CA8-BD83-47EB-8899-ECC5D946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5914-D812-4605-83FC-F1B099B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FD41-E540-4005-A343-53678DE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139-7E1D-47F4-B478-FEB7E32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F95A-838A-4501-B460-42B8DEB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BA81-934F-4061-8CFA-82C2468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216D-331B-4B5F-A445-3078E4B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3242-BBA6-401E-B103-3B4C294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0EA8-7371-4604-B891-28375E6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749C-376D-4529-B59A-0100543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51E4-325E-449A-A22C-F9F6A0A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6321-6AC6-465E-8B9B-98FA48F8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19DD-7D3C-490E-A6C5-184A09B8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5953-B674-49BF-A1F7-1D41D049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E8C-5507-4EC6-BCC3-89AB1B3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0231-8272-4D41-BBD0-DA05E0C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A255-2BE3-4EAE-BB57-0F64438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F3D4-D964-4CC8-ABB5-7302CCB7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BD2E-9018-4E3A-AA67-6366E04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E890-FA5D-4E71-9C3D-675D025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AAD5F-21F0-43A3-B1A3-01F84C8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3A376-9D7F-4B25-B701-9F7E24EA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12D1-A930-4F0A-B408-4E3C7F0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B0F6-59D1-4434-BC84-894412C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1589-A689-48B4-83F1-3A177E37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FB6-42F7-4B30-8ECA-AEF3BB7D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4766-DC82-4C8A-8919-309025D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C333-2F8B-4A03-AE73-8D204BC1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423A-BE2A-40BE-9F8C-D4D6B77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8F87-D252-4ABF-9AFC-7CFFAEE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CC65-774B-4F4C-A97E-9020B81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10A8-4687-45B3-9741-5914BA0A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AFE6-0ACA-4605-A375-31BF20E8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6184-2668-408B-B3C8-FE0454B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C27C-E6C1-4E21-A7D4-AA4C588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394C-8D4C-4E50-A420-E968C50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D80-503A-4993-A43B-B508E01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890E-BDCD-490E-8A54-3328388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76A0-73B7-4400-BC39-9EB35D38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23FA-C6DF-44AE-9D0A-E2AEE92B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F707-7074-45C8-AAA4-A5623574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E79A-ACC3-4688-9725-299E2E2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B7D4F-CCB8-4949-B19B-764CB06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CF5AD-C72E-40BD-8482-BBE116F9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2381-9D56-476E-B481-694D12F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485C-57AA-4CF3-A07B-5513000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BD2C-37D1-4426-B9F0-2A04711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FDD-56F0-46E2-B365-CAD4D1A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655A-B8C0-454A-9E7E-7CC86B57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9589-99A7-45EC-85D9-54ADDDF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4230-7ED6-431C-A802-BDBBF12D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2DE8-9910-4B0A-A39C-0BBE9F38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DE73-DD07-411A-8C36-292CE3F1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C6F2-D36B-41EB-8906-8E938E2E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D410-91C5-4B66-AB77-7C9E80B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4543-67D4-4A24-A2BC-1CABD87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078A-99EE-452A-8FFA-4BC1975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F65F-1ED3-466E-8C40-30F094C9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DD6-09B7-4AB2-A662-657A341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C4F5-E210-47BE-8977-1EB64B5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5DFA-27AB-4AC9-B40F-332D9EB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3099-A885-4E17-B1D4-B84587B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F2E99-AB53-4001-B3B2-768DFF4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2D9E-55F9-4606-9AD3-63C2D8D5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6310-5654-467A-BC30-38195574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C2DD-9F6C-46FB-8D04-2D7CE46C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A894D-088F-4839-89D9-577E164E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A221-11F3-42F5-BF6E-0F13D6C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7414E-ADD9-41F0-A587-7341DA00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CDF-781F-4BF5-BA2E-4BB3C27F89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6DF-1D6E-4948-8514-3BD1902B07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002B-CC17-483A-B986-DF5FA8CB6E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2F9-F12C-4BD6-A2D4-0FC9E87C8F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CA58-0993-4D18-B595-BF47247FA6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79F-8E18-46ED-9015-5942004462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3F6-A745-4CA3-B7B5-CE56176FD5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445-E909-4302-AF83-2B76DB86E5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D0E-4551-4138-B9FE-ABED419A4F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19C-3CAB-4E3A-B27D-B8B85D0771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7683-240B-4FC9-BD0A-3C55CA8E28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018-2BDB-41C1-8A25-537AF02A26C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9 Láskavý Pane, Bož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ako víťaz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ončíš všetky b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tvoja spá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 pamät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e všemohúc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ma niesť môj každodenný krí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oznieť vi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chybnosť zaž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a trýzeň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ebe cieľ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tia prežiadu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áručí svoj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šu spokoj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ja du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eho príde tvoja záchrana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hoc aj Láska tvoju vernosť skú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ude nádej tvoja sklama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kaj na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úšky pominú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 teba sní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y bre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rdce m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jeho vôle vždy sa odovz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viesť ch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y kroky t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ystá ti z lás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ý blah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40:40Z</dcterms:modified>
  <cp:revision>21</cp:revision>
  <dc:subject/>
  <dc:title>Je veľký náš Pán, on slávy je Kráľ Nech do všetkých strán  spev vrúcnych znie chvál.</dc:title>
</cp:coreProperties>
</file>